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1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28.png" ContentType="image/png"/>
  <Override PartName="/ppt/media/image7.jpeg" ContentType="image/jpeg"/>
  <Override PartName="/ppt/media/image3.wmf" ContentType="image/x-wmf"/>
  <Override PartName="/ppt/media/image15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7E2-28D1-446F-AA7D-2BF213B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35E-B13F-4C21-A027-1845D4BD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170-64CA-4BC5-BF93-D12D1759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9B1-1E2E-48DD-AE4B-7FEA77B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239-C890-4E04-971C-5031BF56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E8E-479D-4B09-AD1B-1B89FB2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D57-3536-49E5-9910-940B149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DA5-487E-4E90-9667-A1C179E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B1B-08C1-4D19-B2D6-63AE500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DDE-88D9-4262-8A0F-3EC229B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DFD-49D6-47EC-8E7C-DBEDC05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4BB-8763-42AA-98D8-4483D21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A31-40FE-473E-B339-3630EF7472B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PERA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0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cc"/>
                </a:solidFill>
                <a:latin typeface="Arial"/>
              </a:rPr>
              <a:t>Kunihiro Morish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morishima@flab.phys.nagoya-u.ac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goy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 behalf of OPERA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1081080" cy="80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6920" y="3573360"/>
            <a:ext cx="61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illation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ject with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sion t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ing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ar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25560" y="64612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NN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of The OPERA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16000" y="1590840"/>
            <a:ext cx="7632720" cy="4286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4000" y="2598840"/>
            <a:ext cx="168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NGS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102120"/>
            <a:ext cx="1655640" cy="144360"/>
          </a:xfrm>
          <a:prstGeom prst="line">
            <a:avLst/>
          </a:prstGeom>
          <a:ln w="66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997320" y="2382840"/>
            <a:ext cx="95400" cy="21607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5080" y="331776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4619520"/>
            <a:ext cx="811440" cy="7876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60720" y="50468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4686480"/>
            <a:ext cx="3240000" cy="647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56920" y="4902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763280" y="3678120"/>
            <a:ext cx="1297080" cy="147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0640" y="5157720"/>
            <a:ext cx="2382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CC + Target Tra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708000" y="3894120"/>
            <a:ext cx="576360" cy="169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16640" y="5516640"/>
            <a:ext cx="1486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o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706400">
            <a:off x="3332880" y="1465560"/>
            <a:ext cx="468360" cy="1724040"/>
          </a:xfrm>
          <a:custGeom>
            <a:avLst/>
            <a:gdLst>
              <a:gd name="textAreaLeft" fmla="*/ 0 w 468360"/>
              <a:gd name="textAreaRight" fmla="*/ 169200 w 468360"/>
              <a:gd name="textAreaTop" fmla="*/ 44640 h 1724040"/>
              <a:gd name="textAreaBottom" fmla="*/ 1679400 h 17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706400">
            <a:off x="5133240" y="1681560"/>
            <a:ext cx="468360" cy="1724040"/>
          </a:xfrm>
          <a:custGeom>
            <a:avLst/>
            <a:gdLst>
              <a:gd name="textAreaLeft" fmla="*/ 0 w 468360"/>
              <a:gd name="textAreaRight" fmla="*/ 169200 w 468360"/>
              <a:gd name="textAreaTop" fmla="*/ 44640 h 1724040"/>
              <a:gd name="textAreaBottom" fmla="*/ 1679400 h 17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75240" y="170028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Modul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5600" y="19890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Modul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86600" y="6237360"/>
            <a:ext cx="56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ocated in Hall C  -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FN Gran Sasso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6645" t="0" r="4549" b="0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OPERA Detector - overview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692280"/>
            <a:ext cx="536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ulsion - Counter Hybrid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6461280"/>
            <a:ext cx="594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cated in Hall C  -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INFN Gran Sasso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51400" y="1341360"/>
            <a:ext cx="2892600" cy="210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C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ck Targe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t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　　　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-o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mulsion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419000">
            <a:off x="4603680" y="1395000"/>
            <a:ext cx="647640" cy="5479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42920 h 5479920"/>
              <a:gd name="textAreaBottom" fmla="*/ 5337000 h 54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8"/>
                </a:lnTo>
                <a:cubicBezTo>
                  <a:pt x="10800" y="10038"/>
                  <a:pt x="5400" y="10938"/>
                  <a:pt x="0" y="10938"/>
                </a:cubicBezTo>
                <a:cubicBezTo>
                  <a:pt x="5400" y="10938"/>
                  <a:pt x="10800" y="11838"/>
                  <a:pt x="10800" y="127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89080" y="4581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5730200">
            <a:off x="8303040" y="3391200"/>
            <a:ext cx="347760" cy="1330560"/>
          </a:xfrm>
          <a:custGeom>
            <a:avLst/>
            <a:gdLst>
              <a:gd name="textAreaLeft" fmla="*/ 222120 w 347760"/>
              <a:gd name="textAreaRight" fmla="*/ 348120 w 347760"/>
              <a:gd name="textAreaTop" fmla="*/ 34560 h 1330560"/>
              <a:gd name="textAreaBottom" fmla="*/ 1296000 h 133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8"/>
                </a:lnTo>
                <a:cubicBezTo>
                  <a:pt x="10800" y="10038"/>
                  <a:pt x="5400" y="10938"/>
                  <a:pt x="0" y="10938"/>
                </a:cubicBezTo>
                <a:cubicBezTo>
                  <a:pt x="5400" y="10938"/>
                  <a:pt x="10800" y="11838"/>
                  <a:pt x="10800" y="127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7800" y="429264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6645" t="0" r="4549" b="0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ick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476280"/>
            <a:ext cx="309708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4480" y="1628640"/>
            <a:ext cx="3729960" cy="180036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Target mass 1.35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~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150000 B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~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8 mill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nuclear Emul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440" y="6308640"/>
            <a:ext cx="8858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ick filling is finished in July 200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00 bricks more will be added at the end of 2008 once additional lead will be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356000" y="1916280"/>
            <a:ext cx="4143240" cy="3345840"/>
            <a:chOff x="4356000" y="1916280"/>
            <a:chExt cx="4143240" cy="33458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4356000" y="1916280"/>
              <a:ext cx="414324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975200" y="2014920"/>
              <a:ext cx="18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M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ck Assembling Machin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77080" y="10526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of 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 rot="20269200">
            <a:off x="3780000" y="4653000"/>
            <a:ext cx="2124000" cy="1596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5975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in a dark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~700 bricks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M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ck Manipulating Syste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897440" cy="36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3097080" cy="2737080"/>
          </a:xfrm>
          <a:prstGeom prst="rect">
            <a:avLst/>
          </a:prstGeom>
          <a:ln w="18360">
            <a:solidFill>
              <a:srgbClr val="ffffff"/>
            </a:solidFill>
            <a:miter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00720" y="4697280"/>
            <a:ext cx="4643280" cy="2160720"/>
          </a:xfrm>
          <a:prstGeom prst="rect">
            <a:avLst/>
          </a:prstGeom>
          <a:ln w="18360">
            <a:solidFill>
              <a:srgbClr val="ffffff"/>
            </a:solidFill>
            <a:miter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5" name=""/>
          <p:cNvSpPr/>
          <p:nvPr/>
        </p:nvSpPr>
        <p:spPr>
          <a:xfrm>
            <a:off x="2483280" y="90792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ing and Extraction of 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2454" t="0" r="8740" b="0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nic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721600">
            <a:off x="5796000" y="260280"/>
            <a:ext cx="259236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4880" y="2205000"/>
            <a:ext cx="2010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t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206400">
            <a:off x="3562200" y="388440"/>
            <a:ext cx="282744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7440" y="2637000"/>
            <a:ext cx="2180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 T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96840" y="271440"/>
            <a:ext cx="354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Lucida Sans Unicode"/>
              </a:rPr>
              <a:t>Target tr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3680" y="1071720"/>
            <a:ext cx="8852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main goals of the target tracker are the trigger on the neutrino events and the identification of the brick to be extracted and then analy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t is made of plastic scintillator strips, each with a wavelength shifting f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fibres are connected in groups of 64 to multi-anode Hamamatsu PMTs at both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44440" y="2733840"/>
            <a:ext cx="2481480" cy="310176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241880" y="3668760"/>
            <a:ext cx="4400640" cy="106200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8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523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patial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~0.8 cm (2.6 cm p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Scotto Lavina (INFN Napoli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1AE-EAAB-4948-8162-0A1F5A112E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54440" y="271440"/>
            <a:ext cx="3434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ectro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3680" y="1071720"/>
            <a:ext cx="8852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goal of the spectrometer is the momentum measurement and charge discri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 particular it is used to measure and identify muons, in order to reduce charm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t is made by inner tracker (RPC planes) and precision tracker (Drift Tubes) in a 1.5 T 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335400" y="2763720"/>
            <a:ext cx="5052960" cy="164304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660840" y="4894200"/>
            <a:ext cx="4402080" cy="90828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54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2805120" cy="360216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931040" y="4210200"/>
            <a:ext cx="316440" cy="337320"/>
            <a:chOff x="1931040" y="4210200"/>
            <a:chExt cx="316440" cy="337320"/>
          </a:xfrm>
        </p:grpSpPr>
        <p:sp>
          <p:nvSpPr>
            <p:cNvPr id="257" name=""/>
            <p:cNvSpPr/>
            <p:nvPr/>
          </p:nvSpPr>
          <p:spPr>
            <a:xfrm>
              <a:off x="1931040" y="4210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93680" y="4246200"/>
              <a:ext cx="2253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V="1">
            <a:off x="1871640" y="4175280"/>
            <a:ext cx="0" cy="25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1520" y="4299120"/>
            <a:ext cx="316440" cy="337320"/>
            <a:chOff x="101520" y="4299120"/>
            <a:chExt cx="316440" cy="337320"/>
          </a:xfrm>
        </p:grpSpPr>
        <p:sp>
          <p:nvSpPr>
            <p:cNvPr id="261" name=""/>
            <p:cNvSpPr/>
            <p:nvPr/>
          </p:nvSpPr>
          <p:spPr>
            <a:xfrm>
              <a:off x="101520" y="4299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440" y="4335120"/>
              <a:ext cx="2264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9800" y="4363920"/>
            <a:ext cx="0" cy="25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Scotto Lavina (INFN Napoli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3E6-04F2-456E-89C1-8481F748D7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automated micro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72000" y="2249640"/>
            <a:ext cx="3960720" cy="2701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01480" y="2263680"/>
            <a:ext cx="3638880" cy="2727360"/>
          </a:xfrm>
          <a:prstGeom prst="rect">
            <a:avLst/>
          </a:prstGeom>
          <a:ln w="21600">
            <a:solidFill>
              <a:srgbClr val="000000"/>
            </a:solidFill>
            <a:miter/>
          </a:ln>
        </p:spPr>
      </p:pic>
      <p:sp>
        <p:nvSpPr>
          <p:cNvPr id="267" name=""/>
          <p:cNvSpPr/>
          <p:nvPr/>
        </p:nvSpPr>
        <p:spPr>
          <a:xfrm>
            <a:off x="942840" y="1197000"/>
            <a:ext cx="758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just">
              <a:lnSpc>
                <a:spcPct val="93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~30 bricks will be daily extracted from the target and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4408560"/>
            <a:ext cx="263700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ized commercial optics and mechan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1480" y="1844640"/>
            <a:ext cx="2859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uropean scann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08600" y="1855800"/>
            <a:ext cx="1581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-UTS (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3280" y="226368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anning speed: 20cm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5445000"/>
            <a:ext cx="311796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ynchronous DAQ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5013360"/>
            <a:ext cx="4334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43640" y="2320920"/>
            <a:ext cx="202248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gh speed CMOS camera (3 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88000" y="289728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iezo-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626000"/>
            <a:ext cx="388764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ardware corded  algorithm (FP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5445000"/>
            <a:ext cx="311796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ynchronous DAQ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27640" y="5013360"/>
            <a:ext cx="43200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87440" y="6145200"/>
            <a:ext cx="2361600" cy="398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57600" y="223524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anning speed: 72cm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62200" y="5776920"/>
            <a:ext cx="4334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04120" y="5776920"/>
            <a:ext cx="4316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5440" y="6199200"/>
            <a:ext cx="1160640" cy="33732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45920" y="6205680"/>
            <a:ext cx="1160640" cy="33732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640600" y="6194880"/>
            <a:ext cx="333360" cy="360360"/>
          </a:xfrm>
          <a:prstGeom prst="downArrow">
            <a:avLst>
              <a:gd name="adj1" fmla="val 31176"/>
              <a:gd name="adj2" fmla="val 51367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5737320" y="6194880"/>
            <a:ext cx="333360" cy="360360"/>
          </a:xfrm>
          <a:prstGeom prst="downArrow">
            <a:avLst>
              <a:gd name="adj1" fmla="val 31176"/>
              <a:gd name="adj2" fmla="val 51367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49360" y="642960"/>
            <a:ext cx="8047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81080" cy="80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732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16040" y="628560"/>
            <a:ext cx="7713720" cy="5600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98440" y="1557360"/>
            <a:ext cx="3559320" cy="1313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 !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bricks already t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xpected : 2200 br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2480" y="-27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Run : One Example of Neutrino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81160" y="1052640"/>
            <a:ext cx="8396280" cy="5805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830840" y="1657440"/>
            <a:ext cx="360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5300640"/>
            <a:ext cx="360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496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Run : One Example of Neutrino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0" r="0" b="20170"/>
          <a:stretch/>
        </p:blipFill>
        <p:spPr>
          <a:xfrm>
            <a:off x="128520" y="870120"/>
            <a:ext cx="8620200" cy="598788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3611160" y="2453760"/>
            <a:ext cx="5127120" cy="1185840"/>
            <a:chOff x="3611160" y="2453760"/>
            <a:chExt cx="5127120" cy="1185840"/>
          </a:xfrm>
        </p:grpSpPr>
        <p:sp>
          <p:nvSpPr>
            <p:cNvPr id="298" name=""/>
            <p:cNvSpPr/>
            <p:nvPr/>
          </p:nvSpPr>
          <p:spPr>
            <a:xfrm>
              <a:off x="4644000" y="2997000"/>
              <a:ext cx="409428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 most probable brick is det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y brick finding algorith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611160" y="2453760"/>
              <a:ext cx="1079640" cy="57636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18560" y="2349360"/>
            <a:ext cx="1657800" cy="863640"/>
            <a:chOff x="1618560" y="2349360"/>
            <a:chExt cx="1657800" cy="863640"/>
          </a:xfrm>
        </p:grpSpPr>
        <p:sp>
          <p:nvSpPr>
            <p:cNvPr id="301" name=""/>
            <p:cNvSpPr/>
            <p:nvPr/>
          </p:nvSpPr>
          <p:spPr>
            <a:xfrm flipH="1">
              <a:off x="2268000" y="2349360"/>
              <a:ext cx="100836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18560" y="2384280"/>
              <a:ext cx="139824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1280" y="3284640"/>
            <a:ext cx="6033240" cy="2581200"/>
            <a:chOff x="611280" y="3284640"/>
            <a:chExt cx="6033240" cy="258120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611280" y="3284640"/>
              <a:ext cx="338616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700360" y="4653000"/>
              <a:ext cx="1440000" cy="792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6040" y="4761000"/>
              <a:ext cx="331848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velopment → Sc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2720" y="4149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800" y="40766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3933720"/>
              <a:ext cx="431640" cy="1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2160" y="35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9069" r="50993" b="48588"/>
          <a:stretch/>
        </p:blipFill>
        <p:spPr>
          <a:xfrm>
            <a:off x="4211640" y="1484280"/>
            <a:ext cx="4392720" cy="53737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 analysis by the Scanning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3382920" cy="2446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48000" y="3573360"/>
            <a:ext cx="515880" cy="100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347640" y="2060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347640" y="4581360"/>
            <a:ext cx="1584360" cy="227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0360" y="981000"/>
            <a:ext cx="82519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canning Station scans the whole surface of the two em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faces (CS) and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electing particle tracks found in both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859280" y="5432400"/>
          <a:ext cx="3889440" cy="1092240"/>
        </p:xfrm>
        <a:graphic>
          <a:graphicData uri="http://schemas.openxmlformats.org/drawingml/2006/table">
            <a:tbl>
              <a:tblPr/>
              <a:tblGrid>
                <a:gridCol w="647640"/>
                <a:gridCol w="792360"/>
                <a:gridCol w="792000"/>
                <a:gridCol w="865080"/>
                <a:gridCol w="792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k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70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0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3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1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0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324000" y="5661000"/>
            <a:ext cx="34560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 result validates the bri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is then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ent to the develop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2133720"/>
            <a:ext cx="3166920" cy="7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2206800"/>
            <a:ext cx="3166920" cy="7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80" y="23922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4000" y="220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24000" y="227628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cation of the neutrino interac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079640" y="2391840"/>
            <a:ext cx="399564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2678760" y="3810240"/>
            <a:ext cx="40035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3679200" y="3069000"/>
            <a:ext cx="323640" cy="468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43280" y="260784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34005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361476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780000" y="2681280"/>
            <a:ext cx="863280" cy="64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3780000" y="3328560"/>
            <a:ext cx="863280" cy="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3328920"/>
            <a:ext cx="720720" cy="28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18842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36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3528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80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5092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400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95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669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85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420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7164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43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3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3200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49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65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19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09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220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352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083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67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4036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990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7212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468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87760" y="18860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782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5080" y="5992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C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32680" y="5992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5280" y="350028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5080" y="292428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03640" y="2673360"/>
            <a:ext cx="3889440" cy="161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dictions from the C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followed back in the bric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oking for the position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utrino interaction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tex Reconstruction in E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0" t="0" r="0" b="2986"/>
          <a:stretch/>
        </p:blipFill>
        <p:spPr>
          <a:xfrm>
            <a:off x="3679920" y="3849840"/>
            <a:ext cx="2232000" cy="1938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1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232000" cy="1928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013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384720" cy="2768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285080" y="119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04720" y="115092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cks found in E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8360" y="1932120"/>
          <a:ext cx="3240000" cy="1674720"/>
        </p:xfrm>
        <a:graphic>
          <a:graphicData uri="http://schemas.openxmlformats.org/drawingml/2006/table">
            <a:tbl>
              <a:tblPr/>
              <a:tblGrid>
                <a:gridCol w="1209600"/>
                <a:gridCol w="1131840"/>
                <a:gridCol w="898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68360" y="1341360"/>
            <a:ext cx="324000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structed track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ver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20800" y="3429000"/>
            <a:ext cx="3190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TX:(116213.5 51204.3 63617.2)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03640" y="6321600"/>
            <a:ext cx="652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vertex is confirmed and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ll data are stored into the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9080" y="272880"/>
            <a:ext cx="6895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2007 Run : a charm candidat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17600" y="1042920"/>
            <a:ext cx="3868560" cy="4081680"/>
          </a:xfrm>
          <a:prstGeom prst="rect">
            <a:avLst/>
          </a:prstGeom>
          <a:ln w="34200">
            <a:solidFill>
              <a:srgbClr val="000000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761000" y="923760"/>
            <a:ext cx="3990960" cy="38674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292720" y="5013360"/>
            <a:ext cx="3052800" cy="1490760"/>
          </a:xfrm>
          <a:prstGeom prst="rect">
            <a:avLst/>
          </a:prstGeom>
          <a:ln w="32400">
            <a:solidFill>
              <a:srgbClr val="000000"/>
            </a:solidFill>
            <a:miter/>
          </a:ln>
        </p:spPr>
      </p:pic>
      <p:sp>
        <p:nvSpPr>
          <p:cNvPr id="397" name=""/>
          <p:cNvSpPr/>
          <p:nvPr/>
        </p:nvSpPr>
        <p:spPr>
          <a:xfrm>
            <a:off x="2058840" y="4289400"/>
            <a:ext cx="2208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ectromagnetic shower (15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897200" y="3765240"/>
            <a:ext cx="527040" cy="49860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and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1760" y="1852560"/>
            <a:ext cx="7954200" cy="44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OPERA detector is taking data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OPERA proved the possibility of producing emulsion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 the kiloton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tream of locating Neutrino Interactions is systemat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unning continu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w: run 2008 started since June 18th, 123 days of data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xpected 2.28x10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p.o.t. and 1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far, collected 6x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.o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2008 run will produce important results for OPERA :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 efficiency and BG estimates (charm,…) and maybe ~1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??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OPERA Experiment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 and Conceptu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2200" y="1681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628640"/>
            <a:ext cx="83534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ff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OPERA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cillation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roject with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mulsion t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cking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paratus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 long baseline neutrino oscillation experi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goal of the experiment is to directly measure for the first tim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eutrino oscillation in an appearance m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Using an almost pure 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eam, the 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τ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transition is detecte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y observing the τ lepton decay, induced after a  neutrino-lea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C inte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τ lepton decay is observed by means of Emulsion Cloud Cha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detector is located on the CNGS (CERN to Gran Sasso) beam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ne at a distance from the neutrino source of 730 k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alphaModFix amt="26000"/>
          </a:blip>
          <a:srcRect l="2254" t="386" r="21264" b="274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92440" y="1336680"/>
            <a:ext cx="609480" cy="29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4960" y="4460760"/>
            <a:ext cx="304560" cy="228600"/>
          </a:xfrm>
          <a:custGeom>
            <a:avLst/>
            <a:gdLst/>
            <a:ahLst/>
            <a:rect l="l" t="t" r="r" b="b"/>
            <a:pathLst>
              <a:path w="501" h="468">
                <a:moveTo>
                  <a:pt x="75" y="432"/>
                </a:moveTo>
                <a:cubicBezTo>
                  <a:pt x="127" y="428"/>
                  <a:pt x="175" y="424"/>
                  <a:pt x="227" y="428"/>
                </a:cubicBezTo>
                <a:cubicBezTo>
                  <a:pt x="266" y="438"/>
                  <a:pt x="298" y="456"/>
                  <a:pt x="335" y="468"/>
                </a:cubicBezTo>
                <a:cubicBezTo>
                  <a:pt x="386" y="465"/>
                  <a:pt x="430" y="457"/>
                  <a:pt x="479" y="452"/>
                </a:cubicBezTo>
                <a:cubicBezTo>
                  <a:pt x="485" y="434"/>
                  <a:pt x="487" y="415"/>
                  <a:pt x="491" y="396"/>
                </a:cubicBezTo>
                <a:cubicBezTo>
                  <a:pt x="499" y="304"/>
                  <a:pt x="501" y="193"/>
                  <a:pt x="447" y="112"/>
                </a:cubicBezTo>
                <a:cubicBezTo>
                  <a:pt x="424" y="78"/>
                  <a:pt x="386" y="50"/>
                  <a:pt x="355" y="24"/>
                </a:cubicBezTo>
                <a:cubicBezTo>
                  <a:pt x="331" y="4"/>
                  <a:pt x="357" y="17"/>
                  <a:pt x="319" y="4"/>
                </a:cubicBezTo>
                <a:cubicBezTo>
                  <a:pt x="315" y="3"/>
                  <a:pt x="307" y="0"/>
                  <a:pt x="307" y="0"/>
                </a:cubicBezTo>
                <a:cubicBezTo>
                  <a:pt x="284" y="1"/>
                  <a:pt x="262" y="1"/>
                  <a:pt x="239" y="4"/>
                </a:cubicBezTo>
                <a:cubicBezTo>
                  <a:pt x="205" y="8"/>
                  <a:pt x="169" y="36"/>
                  <a:pt x="143" y="56"/>
                </a:cubicBezTo>
                <a:cubicBezTo>
                  <a:pt x="68" y="114"/>
                  <a:pt x="34" y="148"/>
                  <a:pt x="15" y="244"/>
                </a:cubicBezTo>
                <a:cubicBezTo>
                  <a:pt x="14" y="273"/>
                  <a:pt x="14" y="303"/>
                  <a:pt x="11" y="332"/>
                </a:cubicBezTo>
                <a:cubicBezTo>
                  <a:pt x="10" y="346"/>
                  <a:pt x="3" y="372"/>
                  <a:pt x="3" y="372"/>
                </a:cubicBezTo>
                <a:cubicBezTo>
                  <a:pt x="4" y="388"/>
                  <a:pt x="0" y="406"/>
                  <a:pt x="7" y="420"/>
                </a:cubicBezTo>
                <a:cubicBezTo>
                  <a:pt x="11" y="428"/>
                  <a:pt x="23" y="425"/>
                  <a:pt x="31" y="428"/>
                </a:cubicBezTo>
                <a:cubicBezTo>
                  <a:pt x="45" y="433"/>
                  <a:pt x="75" y="455"/>
                  <a:pt x="75" y="432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27280" y="4710240"/>
            <a:ext cx="30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INFN Gran Sasso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9640" y="1363680"/>
            <a:ext cx="13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CERN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263800">
            <a:off x="3639960" y="2994120"/>
            <a:ext cx="113148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730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68760" y="1576440"/>
            <a:ext cx="3657600" cy="2743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612720" y="117360"/>
            <a:ext cx="64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NGS 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87640" y="4125960"/>
            <a:ext cx="2952720" cy="273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95640" y="1027080"/>
            <a:ext cx="4897440" cy="13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am is optimized for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atmospheric oscillatio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Δm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= (2.43±0.13)×10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θ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400" y="2816280"/>
            <a:ext cx="3044880" cy="3098880"/>
            <a:chOff x="14400" y="2816280"/>
            <a:chExt cx="3044880" cy="3098880"/>
          </a:xfrm>
        </p:grpSpPr>
        <p:sp>
          <p:nvSpPr>
            <p:cNvPr id="62" name=""/>
            <p:cNvSpPr/>
            <p:nvPr/>
          </p:nvSpPr>
          <p:spPr>
            <a:xfrm>
              <a:off x="14400" y="2816280"/>
              <a:ext cx="3039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ventional </a:t>
              </a:r>
              <a:r>
                <a:rPr b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40" y="3203640"/>
              <a:ext cx="3029040" cy="271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( m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2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/ pot)               7.45x10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CC / pot / kton       5.44x10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&lt; E &gt;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( GeV )                 </a:t>
              </a:r>
              <a:r>
                <a:rPr b="1" lang="ja-JP" sz="15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e +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) / 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0.85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       2.0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t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prompt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negligi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6720" y="32036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5720" y="4581360"/>
              <a:ext cx="10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080" y="5013360"/>
              <a:ext cx="10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44520" y="29034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44880" y="2903400"/>
            <a:ext cx="2160360" cy="66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44880" y="2903400"/>
            <a:ext cx="2087280" cy="9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38400" y="2622600"/>
            <a:ext cx="45396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04960" y="1469520"/>
            <a:ext cx="1368720" cy="1132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4960" y="1758960"/>
            <a:ext cx="1656000" cy="84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76520" y="2565000"/>
            <a:ext cx="18003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040" y="237168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50160" y="162864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08440" y="25876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48360" y="2060640"/>
          <a:ext cx="3816360" cy="1339920"/>
        </p:xfrm>
        <a:graphic>
          <a:graphicData uri="http://schemas.openxmlformats.org/drawingml/2006/table">
            <a:tbl>
              <a:tblPr/>
              <a:tblGrid>
                <a:gridCol w="1008000"/>
                <a:gridCol w="1873080"/>
                <a:gridCol w="93528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le of detecting tau neut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8320" y="1549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83160" y="190800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51200" y="20588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5240" y="2558880"/>
            <a:ext cx="9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2120" y="33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05520" y="36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4920" y="4446720"/>
            <a:ext cx="8806320" cy="1213920"/>
            <a:chOff x="124920" y="4446720"/>
            <a:chExt cx="8806320" cy="1213920"/>
          </a:xfrm>
        </p:grpSpPr>
        <p:sp>
          <p:nvSpPr>
            <p:cNvPr id="86" name=""/>
            <p:cNvSpPr/>
            <p:nvPr/>
          </p:nvSpPr>
          <p:spPr>
            <a:xfrm>
              <a:off x="124920" y="4446720"/>
              <a:ext cx="7345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icrometric and milliradian resolution                                 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→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Large Mass                                                                              →  Lead 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Trigger Neutrino Interaction                                                  → Target Tra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Identify muons and charge to reduce charm backgound   →  Spectro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4516200"/>
              <a:ext cx="216000" cy="4456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1520 h 445680"/>
                <a:gd name="textAreaBottom" fmla="*/ 43416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68800" y="457344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24720" y="5106960"/>
              <a:ext cx="216000" cy="521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3320 h 521640"/>
                <a:gd name="textAreaBottom" fmla="*/ 508320 h 52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0600" y="507996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30840" y="6005520"/>
            <a:ext cx="8558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brid Detector (Emulsion - Electronic Dete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62800" y="1916280"/>
            <a:ext cx="140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～ 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ja-JP" sz="1400" spc="-1" strike="noStrike" baseline="30000">
                <a:solidFill>
                  <a:srgbClr val="ff0000"/>
                </a:solidFill>
                <a:latin typeface="Arial"/>
              </a:rPr>
              <a:t>-13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cτ = 87 mic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197000"/>
            <a:ext cx="4608360" cy="30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115920"/>
            <a:ext cx="8280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065480"/>
            <a:ext cx="3492360" cy="279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73200" y="1584360"/>
            <a:ext cx="47808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1080" y="158436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7400" y="158436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60600" y="158436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3120" y="1584360"/>
            <a:ext cx="442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48000" y="158436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3680" y="158436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0960" y="2725560"/>
            <a:ext cx="1265400" cy="60984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90680" y="2722680"/>
            <a:ext cx="1281240" cy="31896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104840" y="2724120"/>
            <a:ext cx="263520" cy="1440"/>
          </a:xfrm>
          <a:prstGeom prst="line">
            <a:avLst/>
          </a:prstGeom>
          <a:ln w="93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520" y="2728800"/>
            <a:ext cx="492120" cy="0"/>
          </a:xfrm>
          <a:prstGeom prst="line">
            <a:avLst/>
          </a:prstGeom>
          <a:ln w="936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389240" y="2363760"/>
            <a:ext cx="598320" cy="35712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0800" y="2360520"/>
            <a:ext cx="706320" cy="1440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84320" y="1620720"/>
            <a:ext cx="531720" cy="744480"/>
          </a:xfrm>
          <a:prstGeom prst="line">
            <a:avLst/>
          </a:prstGeom>
          <a:ln w="64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96920" y="1946160"/>
            <a:ext cx="638280" cy="411120"/>
          </a:xfrm>
          <a:prstGeom prst="line">
            <a:avLst/>
          </a:prstGeom>
          <a:ln w="64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2240" y="2367000"/>
            <a:ext cx="47520" cy="1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44760" y="2373480"/>
            <a:ext cx="49320" cy="1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741320" y="2484000"/>
            <a:ext cx="46080" cy="255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555920" y="2593440"/>
            <a:ext cx="45720" cy="255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0880" y="2763720"/>
            <a:ext cx="525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46360" y="2813040"/>
            <a:ext cx="5220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46200" y="2987640"/>
            <a:ext cx="525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9000" y="2943360"/>
            <a:ext cx="525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55920" y="2814480"/>
            <a:ext cx="39600" cy="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49600" y="2903400"/>
            <a:ext cx="3780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3156120"/>
            <a:ext cx="381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6200" y="3241800"/>
            <a:ext cx="399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92080" y="326088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8960" y="3597120"/>
            <a:ext cx="18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92929"/>
                </a:solidFill>
                <a:latin typeface="Arial"/>
              </a:rPr>
              <a:t>Emulsion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766520" y="3562200"/>
            <a:ext cx="65160" cy="192240"/>
          </a:xfrm>
          <a:prstGeom prst="line">
            <a:avLst/>
          </a:prstGeom>
          <a:ln w="9360">
            <a:solidFill>
              <a:srgbClr val="29292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580760" y="3569760"/>
            <a:ext cx="236520" cy="212760"/>
          </a:xfrm>
          <a:prstGeom prst="line">
            <a:avLst/>
          </a:prstGeom>
          <a:ln w="9360">
            <a:solidFill>
              <a:srgbClr val="29292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2720" y="24526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89120" y="21351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71720" y="18921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25640" y="15890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0552400">
            <a:off x="3779640" y="2052720"/>
            <a:ext cx="4427280" cy="342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3708360" y="1980720"/>
            <a:ext cx="2519280" cy="57636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3280" y="18320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804000" y="2052360"/>
            <a:ext cx="1370160" cy="6490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9800" y="19447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28000" y="3060720"/>
            <a:ext cx="216000" cy="15127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85960" y="37814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4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560600">
            <a:off x="3348000" y="5013000"/>
            <a:ext cx="798480" cy="360360"/>
          </a:xfrm>
          <a:prstGeom prst="rightArrow">
            <a:avLst>
              <a:gd name="adj1" fmla="val 50000"/>
              <a:gd name="adj2" fmla="val 5539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4880" y="55166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ed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tern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31040" y="4365720"/>
            <a:ext cx="78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2360" y="5661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ar Em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ERA fi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720" y="45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0" y="605628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880" y="2049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u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640" y="112536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arget is divided in about 152000 ECC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31972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ulsion Cloud Chamb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9800" y="4076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1560" y="974880"/>
            <a:ext cx="2625120" cy="5262480"/>
            <a:chOff x="4111560" y="974880"/>
            <a:chExt cx="2625120" cy="5262480"/>
          </a:xfrm>
        </p:grpSpPr>
        <p:sp>
          <p:nvSpPr>
            <p:cNvPr id="149" name=""/>
            <p:cNvSpPr/>
            <p:nvPr/>
          </p:nvSpPr>
          <p:spPr>
            <a:xfrm>
              <a:off x="5509080" y="134136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Neutri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11560" y="974880"/>
              <a:ext cx="2476440" cy="5262480"/>
              <a:chOff x="4111560" y="974880"/>
              <a:chExt cx="2476440" cy="5262480"/>
            </a:xfrm>
          </p:grpSpPr>
          <p:sp>
            <p:nvSpPr>
              <p:cNvPr id="151" name=""/>
              <p:cNvSpPr/>
              <p:nvPr/>
            </p:nvSpPr>
            <p:spPr>
              <a:xfrm>
                <a:off x="5380200" y="974880"/>
                <a:ext cx="27000" cy="1949400"/>
              </a:xfrm>
              <a:prstGeom prst="line">
                <a:avLst/>
              </a:prstGeom>
              <a:ln w="3492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08640" y="2709720"/>
                <a:ext cx="0" cy="64800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543200" y="3357720"/>
                <a:ext cx="865080" cy="201744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8640" y="3357720"/>
                <a:ext cx="144360" cy="79200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08640" y="3357720"/>
                <a:ext cx="503280" cy="122544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51560" y="4078440"/>
                <a:ext cx="533160" cy="2158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9080" y="4510080"/>
                <a:ext cx="718920" cy="1582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11560" y="5346720"/>
                <a:ext cx="432000" cy="819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PER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2097" r="0" b="0"/>
          <a:stretch/>
        </p:blipFill>
        <p:spPr>
          <a:xfrm>
            <a:off x="1187280" y="1413000"/>
            <a:ext cx="4168800" cy="544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73200" y="54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PER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75800" y="1628640"/>
            <a:ext cx="2968200" cy="4824720"/>
            <a:chOff x="6175800" y="1628640"/>
            <a:chExt cx="2968200" cy="4824720"/>
          </a:xfrm>
        </p:grpSpPr>
        <p:sp>
          <p:nvSpPr>
            <p:cNvPr id="163" name=""/>
            <p:cNvSpPr/>
            <p:nvPr/>
          </p:nvSpPr>
          <p:spPr>
            <a:xfrm>
              <a:off x="6589080" y="249228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44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9080" y="501336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44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75800" y="378936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plastic 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205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rcRect l="0" t="0" r="68223" b="0"/>
            <a:stretch/>
          </p:blipFill>
          <p:spPr>
            <a:xfrm>
              <a:off x="7812000" y="1628640"/>
              <a:ext cx="1332000" cy="482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2336040" y="907920"/>
            <a:ext cx="478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 micron crystal 3D tracking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0920" y="1628640"/>
            <a:ext cx="5350320" cy="4024440"/>
            <a:chOff x="250920" y="1628640"/>
            <a:chExt cx="5350320" cy="40244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rcRect l="0" t="1543" r="1196" b="0"/>
            <a:stretch/>
          </p:blipFill>
          <p:spPr>
            <a:xfrm>
              <a:off x="250920" y="1628640"/>
              <a:ext cx="5329080" cy="4024440"/>
            </a:xfrm>
            <a:prstGeom prst="rect">
              <a:avLst/>
            </a:prstGeom>
            <a:ln w="31680">
              <a:solidFill>
                <a:srgbClr val="000000"/>
              </a:solidFill>
              <a:round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3995640" y="2133720"/>
              <a:ext cx="1382760" cy="427320"/>
              <a:chOff x="3995640" y="2133720"/>
              <a:chExt cx="1382760" cy="427320"/>
            </a:xfrm>
          </p:grpSpPr>
          <p:sp>
            <p:nvSpPr>
              <p:cNvPr id="171" name=""/>
              <p:cNvSpPr/>
              <p:nvPr/>
            </p:nvSpPr>
            <p:spPr>
              <a:xfrm>
                <a:off x="4043160" y="2133720"/>
                <a:ext cx="1320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95640" y="2162160"/>
                <a:ext cx="138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 micr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131640" y="5229360"/>
              <a:ext cx="246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croscopic 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2920" y="4076640"/>
              <a:ext cx="4313880" cy="99396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ed as silver gr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ong the line particle passed throu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sitivity : 36grains/100mic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708520" y="2463840"/>
            <a:ext cx="3419640" cy="3810960"/>
            <a:chOff x="5708520" y="2463840"/>
            <a:chExt cx="3419640" cy="381096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rcRect l="23441" t="14569" r="27133" b="18507"/>
            <a:stretch/>
          </p:blipFill>
          <p:spPr>
            <a:xfrm>
              <a:off x="5708520" y="2463840"/>
              <a:ext cx="3419640" cy="319716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6084720" y="5705640"/>
              <a:ext cx="2874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76000"/>
                </a:lnSpc>
                <a:spcBef>
                  <a:spcPts val="1312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osition resolution    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～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50n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u Neutrino Interaction In EC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234040" cy="544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sitivity of tau neutrino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844640"/>
          <a:ext cx="6697440" cy="2952720"/>
        </p:xfrm>
        <a:graphic>
          <a:graphicData uri="http://schemas.openxmlformats.org/drawingml/2006/table">
            <a:tbl>
              <a:tblPr/>
              <a:tblGrid>
                <a:gridCol w="1434240"/>
                <a:gridCol w="1747800"/>
                <a:gridCol w="1841760"/>
                <a:gridCol w="1673640"/>
              </a:tblGrid>
              <a:tr h="564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mix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x 10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x 10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071520" y="1366920"/>
            <a:ext cx="54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mixing after 5 years run at 4.5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ot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084640"/>
            <a:ext cx="54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ground 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Charm production and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Hadron re-interactions in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Large-angle muon scattering in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580000" y="5373720"/>
            <a:ext cx="3033000" cy="703800"/>
            <a:chOff x="5580000" y="5373720"/>
            <a:chExt cx="3033000" cy="703800"/>
          </a:xfrm>
        </p:grpSpPr>
        <p:sp>
          <p:nvSpPr>
            <p:cNvPr id="185" name=""/>
            <p:cNvSpPr/>
            <p:nvPr/>
          </p:nvSpPr>
          <p:spPr>
            <a:xfrm>
              <a:off x="6153840" y="5373720"/>
              <a:ext cx="245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uon ID 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lectronic 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0000" y="5618160"/>
              <a:ext cx="504720" cy="257040"/>
            </a:xfrm>
            <a:prstGeom prst="leftArrow">
              <a:avLst>
                <a:gd name="adj1" fmla="val 50000"/>
                <a:gd name="adj2" fmla="val 4909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1:11:39Z</dcterms:created>
  <dc:creator>kun</dc:creator>
  <dc:description/>
  <dc:language>en-US</dc:language>
  <cp:lastModifiedBy>J.E Campagne</cp:lastModifiedBy>
  <dcterms:modified xsi:type="dcterms:W3CDTF">2008-09-18T19:01:07Z</dcterms:modified>
  <cp:revision>262</cp:revision>
  <dc:subject/>
  <dc:title>OPERA</dc:title>
</cp:coreProperties>
</file>